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F06-1DDC-49B6-A570-61E0A343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EA9-4914-481C-B494-FB40F9C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887-FF01-42D8-8B0E-91400F40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9D8-0CC2-4DDF-BED9-0493DC4B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16B-3240-4381-91E5-B12995DC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005-4EB1-4165-B283-722C974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6C1-0471-448B-8C02-8C10E5F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747-AAA5-4F30-9EBB-00C5210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18C-821D-42FA-A365-9C780B63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2C4-C598-4F70-95AF-C57F47B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B59-0101-4558-BE1D-A62FF44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917-0184-485A-955F-5421870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595F-27DD-45BB-95B4-A6BC964CF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rmonie Du Soir À Châteaugu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au Dom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6 Harmonie Du Soir A Chateauguay 1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chantant leurs chansons d'o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chantant leurs chansons d'oiseau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 le long de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9144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919080" y="52578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685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996840" y="548640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951120" y="685800"/>
            <a:ext cx="80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921600" y="563868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951120" y="685800"/>
            <a:ext cx="808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931320" y="5638680"/>
            <a:ext cx="50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oting stars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un, fly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951120" y="685800"/>
            <a:ext cx="808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931320" y="5638680"/>
            <a:ext cx="50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oting stars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un, fly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91440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1440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14400" y="685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14400" y="685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14400" y="6858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14400" y="68580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14400" y="6858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14400" y="6858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6858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14400" y="685800"/>
            <a:ext cx="97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975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9753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9753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28:20Z</dcterms:created>
  <dc:creator>Angie</dc:creator>
  <dc:description/>
  <dc:language>en-US</dc:language>
  <cp:lastModifiedBy>Angie</cp:lastModifiedBy>
  <dcterms:modified xsi:type="dcterms:W3CDTF">2011-11-14T19:00:33Z</dcterms:modified>
  <cp:revision>5</cp:revision>
  <dc:subject/>
  <dc:title>Harmonie Du Soir À Châteauguay:</dc:title>
</cp:coreProperties>
</file>